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AB3-147D-4B2E-9204-F11E95E2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16E-8CBC-4DAE-B8A7-86FB5C40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200-07CE-4E45-B4A1-6062A3F5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56-F3D0-44C6-B22F-EB4B69B0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D7CB-CD6D-4724-B723-8E2EAC2C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52A0-AB73-4AC1-B1CB-DABBAD6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1D8A-A635-46F6-8BCA-ECCA99B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FFFC-C3DE-433C-9023-833A096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88A-9928-409A-BDF1-42376392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3A33-2C90-4573-8BAD-2502F5B0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ACF9-12B0-44DB-88D6-142E2F1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9B7-7DB2-469A-8790-1BFC0544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6CEE-7C57-474B-8EA3-A112DA5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1AF-E855-4580-8B53-47949B2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D77E-8F07-480A-91DE-ED7969DE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73C7-3860-4634-A246-A552805F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2A8-8209-4FA7-9F20-183D44A8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EF0-DAC5-42E8-81A2-C100561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933-9B31-4D13-AE27-2D96510A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80A-8FFB-451E-B0B4-F5C9D08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E19-B085-400B-B5EF-0DEA001F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6C2-8B3C-4A71-9D98-18DAB87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2D5-CC65-428C-87AB-FA0783F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90E-B08E-44C7-9F92-7A4783A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970B-1B7F-4462-AEB0-53DEED01515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785-C580-4169-843C-9AFA046788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Soda Strid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Skyler Ca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p gives you the best sugar high Pepsi or Mountain De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hink that the Mountain Dew will do better because it has the most suga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me the testers with out pop then give them Pepsi and test them ag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give them Mountain Dew and test them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untain Dew did better than the Pepsi because it actually made some one fast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hypotheses was correct the Mountain Dew did do better than the Peps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cknowledgment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ould like to than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ven, Shane, Chrys, Robby, Caleb, Zak, and Ni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31:09Z</dcterms:created>
  <dc:creator>USD376</dc:creator>
  <dc:description/>
  <dc:language>en-US</dc:language>
  <cp:lastModifiedBy>USD376</cp:lastModifiedBy>
  <dcterms:modified xsi:type="dcterms:W3CDTF">2012-03-08T14:33:18Z</dcterms:modified>
  <cp:revision>2</cp:revision>
  <dc:subject/>
  <dc:title>Soda Stride</dc:title>
</cp:coreProperties>
</file>